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ED9D-EBA7-463C-9A41-145F2573D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9B77-7765-44F3-B749-29D0225748F1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033A-8BF7-4951-AE8D-D8A96301F1A5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B83B-B4D5-4452-B4AD-0D9A2A88EC3E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DE71-37A8-44BA-BDB4-1662EE60CF6B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9567-0467-40BB-82E3-0F0C1FAEEED1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C817-A8FC-45C2-B090-6C994165640A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EAB8-C398-4CE1-825D-A1454B6BD36A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6248-3067-49ED-920C-B29C30417DAF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3B35-2184-40BC-B5F8-B6B0DB270AB6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38C5-F696-46C2-87BA-918A8C25E501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6634-0F2A-4D53-BCD1-806AEDB0603E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0E82-BC5B-4B50-9B4D-67F43151E1EA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93A2-2627-4701-BE6C-6E979BCD9AAF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9FB3-E82E-41BF-AB72-2B11E0DBA95D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3314-AAE1-451C-BA83-1E3501BE8B7A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3C8F-2CA3-4F8B-8D75-F8ED802C08D2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049E-B5F5-499C-BEEC-52B8BCD09B26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7FD4-14B1-4CE5-8BD7-8FE42A448DC0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108A-76E8-430C-8558-EB96F3BD1731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E6C1-9C17-4094-B7AC-BDFE5BD7282D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630D-E0B1-4256-B75F-9E84D67A0BED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828F-696C-4D61-A982-416AB7668614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A748-BAD3-4467-AE8F-CE47478459BE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09F4-0245-418B-A81A-BBDD0C78BB8A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0D1B-7723-4A01-A16B-686F23CFD02F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B93B-EEFF-4AAC-8607-7026E9B649EE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3F95-2386-4958-AB5B-412DDB846FF4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EEC1-6D04-4A07-866D-E224C8096E29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1AF8-F1E9-4B5E-B2FF-9F80DDB159D8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FB28-B065-433D-B4E0-D06976CF5A41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7F57-C511-4BF3-B828-677177548747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4EE5-6EAA-46FC-B1B6-C7019C3B4A73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322A-6FAD-4FD3-84EA-EC7ECE017C42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13C2-AF71-41DA-8BBC-13C781281007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656A-45C9-42E3-AAE3-96CA6AB9A664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1ACB-F0E6-4EE3-9B51-EF361A000087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292D-57CA-433A-978D-9048F9ECE952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39B1-7BC3-42F7-AAAE-15064DE154DA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C2D8-8F7F-465D-BAA9-C39B11B19A83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6A1E-4B46-4E32-96B7-09EA869FF40E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9BA3-5D7F-44BE-B381-2009FC90D764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C690-92FC-4026-B8FF-6CC5DE3E864E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FEFA-7FEB-43C4-B4CE-15CFED1D3B34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BE19-22EE-4C75-8E55-43679F932E7F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AF0A-E5D6-4512-924D-DE398BD7FC95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1617-9EFD-4756-9D10-ED973CFB13D9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360C-08E1-45D3-90E5-8EF7F5D1992E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7AC7-2E9C-4B60-9134-94BD2002FEC1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959B-E79D-41E9-958D-CBF95938B4AA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333B-C62D-41E0-A6A5-092336A7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02A7-CEDA-4FF7-ABAA-580BC949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E62F-6C8A-40AF-8891-7BA45F9A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87AB-38AA-4D9A-BAE4-AE3F1AB9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AB38-AF3B-48DA-895E-48B164F0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E36D-5025-41FE-B1CE-EDF28D0D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6C24-B2B5-47F8-A7B1-DAE6DA90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7B64-6815-4171-AC3F-B3FE896E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A549-B9FE-437C-9EF1-44C3375A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3F03-8657-44DC-8E46-D716B1EC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4135-30D2-41CF-AF28-EEFE8BC5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D47E-7817-45F7-AB6B-0CB43920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BDAC-B587-47E4-9127-93C8FF6E7717}" type="slidenum">
              <a:rPr b="0" lang="en-US" sz="1400" spc="-1" strike="noStrike">
                <a:solidFill>
                  <a:srgbClr val="ffff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Verdana"/>
              </a:rPr>
              <a:t>Properties of Real  Numbers</a:t>
            </a:r>
            <a:endParaRPr b="0" lang="en-US" sz="48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Algebra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914400" y="2743200"/>
          <a:ext cx="7391520" cy="14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743200"/>
                    <a:ext cx="739152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Commutative Property of Multiplication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1357200" y="3124080"/>
          <a:ext cx="665820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3124080"/>
                    <a:ext cx="665820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Associative Property of Multiplication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609480" y="2666880"/>
          <a:ext cx="8113680" cy="16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666880"/>
                    <a:ext cx="811368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Commutative Property of Multiplication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1752480" y="3048120"/>
          <a:ext cx="5578560" cy="141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48120"/>
                    <a:ext cx="5578560" cy="14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Addi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Inverse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380880" y="2895480"/>
          <a:ext cx="8458200" cy="13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895480"/>
                    <a:ext cx="845820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Associative Property of Addition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990720" y="2590920"/>
          <a:ext cx="7385040" cy="11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90920"/>
                    <a:ext cx="73850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2932200" y="3282840"/>
          <a:ext cx="3219480" cy="9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2200" y="3282840"/>
                    <a:ext cx="321948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Reflexive Proper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1143000" y="2743200"/>
          <a:ext cx="7023240" cy="14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743200"/>
                    <a:ext cx="702324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Commutative Property of Addition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2222640" y="2666880"/>
          <a:ext cx="4886280" cy="16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2640" y="2666880"/>
                    <a:ext cx="488628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Multiplica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Identi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2027160" y="3282840"/>
          <a:ext cx="5029200" cy="9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3282840"/>
                    <a:ext cx="50292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Addi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Inverse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86" name="Object 4"/>
          <p:cNvGraphicFramePr/>
          <p:nvPr/>
        </p:nvGraphicFramePr>
        <p:xfrm>
          <a:off x="393840" y="2614680"/>
          <a:ext cx="8461080" cy="22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2614680"/>
                    <a:ext cx="8461080" cy="22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Transitive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Proper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Commutative Property of Addition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96" name="Object 4"/>
          <p:cNvGraphicFramePr/>
          <p:nvPr/>
        </p:nvGraphicFramePr>
        <p:xfrm>
          <a:off x="2655720" y="2417760"/>
          <a:ext cx="3770640" cy="26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5720" y="2417760"/>
                    <a:ext cx="377064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Multiplica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Inverse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206" name="Object 4"/>
          <p:cNvGraphicFramePr/>
          <p:nvPr/>
        </p:nvGraphicFramePr>
        <p:xfrm>
          <a:off x="1357200" y="3124080"/>
          <a:ext cx="665820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3124080"/>
                    <a:ext cx="665820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Associative Property of Multiplication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216" name="Object 4"/>
          <p:cNvGraphicFramePr/>
          <p:nvPr/>
        </p:nvGraphicFramePr>
        <p:xfrm>
          <a:off x="1531800" y="2943360"/>
          <a:ext cx="6269040" cy="110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1800" y="2943360"/>
                    <a:ext cx="6269040" cy="11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Addi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Identi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226" name="Object 4"/>
          <p:cNvGraphicFramePr/>
          <p:nvPr/>
        </p:nvGraphicFramePr>
        <p:xfrm>
          <a:off x="2970360" y="3282840"/>
          <a:ext cx="3141360" cy="9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360" y="3282840"/>
                    <a:ext cx="314136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Reflexive Proper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236" name="Object 4"/>
          <p:cNvGraphicFramePr/>
          <p:nvPr/>
        </p:nvGraphicFramePr>
        <p:xfrm>
          <a:off x="533520" y="3124080"/>
          <a:ext cx="830556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124080"/>
                    <a:ext cx="830556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Associative Property of Addition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457200" y="3200400"/>
          <a:ext cx="8332920" cy="10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00400"/>
                    <a:ext cx="833292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587520" y="3200400"/>
          <a:ext cx="8072280" cy="10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3200400"/>
                    <a:ext cx="807228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Symmetric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Proper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1727280" y="3135240"/>
          <a:ext cx="5792760" cy="11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3135240"/>
                    <a:ext cx="579276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Distribu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Proper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266" name="Object 4"/>
          <p:cNvGraphicFramePr/>
          <p:nvPr/>
        </p:nvGraphicFramePr>
        <p:xfrm>
          <a:off x="2538360" y="2417760"/>
          <a:ext cx="4006800" cy="26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8360" y="2417760"/>
                    <a:ext cx="400680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Multiplica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Inverse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276" name="Object 4"/>
          <p:cNvGraphicFramePr/>
          <p:nvPr/>
        </p:nvGraphicFramePr>
        <p:xfrm>
          <a:off x="425520" y="2614680"/>
          <a:ext cx="8396280" cy="22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2614680"/>
                    <a:ext cx="8396280" cy="22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Transitive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Proper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286" name="Object 4"/>
          <p:cNvGraphicFramePr/>
          <p:nvPr/>
        </p:nvGraphicFramePr>
        <p:xfrm>
          <a:off x="1076400" y="3135240"/>
          <a:ext cx="7094520" cy="11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3135240"/>
                    <a:ext cx="709452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Distribu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Proper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Symmetric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Proper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76" name="Object 4"/>
          <p:cNvGraphicFramePr/>
          <p:nvPr/>
        </p:nvGraphicFramePr>
        <p:xfrm>
          <a:off x="2130480" y="2666880"/>
          <a:ext cx="5070600" cy="16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0480" y="2666880"/>
                    <a:ext cx="507060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Multiplica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Identi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86" name="Object 4"/>
          <p:cNvGraphicFramePr/>
          <p:nvPr/>
        </p:nvGraphicFramePr>
        <p:xfrm>
          <a:off x="2084400" y="2943360"/>
          <a:ext cx="5162400" cy="110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4400" y="2943360"/>
                    <a:ext cx="5162400" cy="11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Addi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Identi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3:09:32Z</dcterms:created>
  <dc:creator>Parkland High School</dc:creator>
  <dc:description/>
  <dc:language>en-US</dc:language>
  <cp:lastModifiedBy>test</cp:lastModifiedBy>
  <dcterms:modified xsi:type="dcterms:W3CDTF">2014-09-08T11:41:04Z</dcterms:modified>
  <cp:revision>6</cp:revision>
  <dc:subject/>
  <dc:title>Properties of Real  Numbers</dc:title>
</cp:coreProperties>
</file>